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90"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3"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3048DF5-C77E-4B6F-B0E1-1148E20915A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4"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7DC60ABD-D457-42AA-901D-B81F8939BF60}"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5"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6"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22200" y="717480"/>
            <a:ext cx="4703760" cy="3527640"/>
          </a:xfrm>
          <a:prstGeom prst="rect">
            <a:avLst/>
          </a:prstGeom>
          <a:ln w="0">
            <a:noFill/>
          </a:ln>
        </p:spPr>
      </p:sp>
      <p:sp>
        <p:nvSpPr>
          <p:cNvPr id="15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gs to ad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ring in the PSP comparison,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contrasting the tsp and psp by looking at the process phases. Psp planning compares to tsp launch only it’s for a team, not an individual. Work phases are not so similar but the concepts relate. A tsp plan goes for just a phase, psp encompasses a module. Psp plans are not used to make commitments, tsp launches include management agreement on the plan. Continue with these comparis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h have scripts, forms,standards, measures etc</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plan and track work including qualit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track time on task, defects, size, and schedul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s are similar plan summary – sump, task, schedule,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all, need to bring this into the lecture so it relate to their knowledge of p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more launch coach skills/characteristic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22200" y="717480"/>
            <a:ext cx="4703760" cy="3527640"/>
          </a:xfrm>
          <a:prstGeom prst="rect">
            <a:avLst/>
          </a:prstGeom>
          <a:ln w="0">
            <a:noFill/>
          </a:ln>
        </p:spPr>
      </p:sp>
      <p:sp>
        <p:nvSpPr>
          <p:cNvPr id="183"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sk questions her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should you approach Manag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at should you tell the team lead prior to going to manage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an the team succeed on this path?</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 this slide animated, one item at a tim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 point 4, make sure to point out you’re not suggesting to team leader be fired.</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22200" y="717480"/>
            <a:ext cx="4703760" cy="3527640"/>
          </a:xfrm>
          <a:prstGeom prst="rect">
            <a:avLst/>
          </a:prstGeom>
          <a:ln w="0">
            <a:noFill/>
          </a:ln>
        </p:spPr>
      </p:sp>
      <p:sp>
        <p:nvSpPr>
          <p:cNvPr id="185"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ere is an example of the previous scenario. </a:t>
            </a:r>
            <a:endParaRPr b="0" lang="en-US" sz="1100" spc="-1" strike="noStrike">
              <a:solidFill>
                <a:srgbClr val="000000"/>
              </a:solidFill>
              <a:latin typeface="Arial"/>
            </a:endParaRPr>
          </a:p>
        </p:txBody>
      </p:sp>
      <p:sp>
        <p:nvSpPr>
          <p:cNvPr id="18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47177F0-4190-4499-8973-6B48C96B6CD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22200" y="717480"/>
            <a:ext cx="4703760" cy="3527640"/>
          </a:xfrm>
          <a:prstGeom prst="rect">
            <a:avLst/>
          </a:prstGeom>
          <a:ln w="0">
            <a:noFill/>
          </a:ln>
        </p:spPr>
      </p:sp>
      <p:sp>
        <p:nvSpPr>
          <p:cNvPr id="18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based on an actual story.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alk about coach following steps 1 &amp; 2.</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rsha’s failure to follow the process cost her her job. As a coach, a duty to the team lead is to help her succeed. The ultimate failure here was management, yet Marsha was the one punished.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imate the sli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22200" y="717480"/>
            <a:ext cx="4703760" cy="3527640"/>
          </a:xfrm>
          <a:prstGeom prst="rect">
            <a:avLst/>
          </a:prstGeom>
          <a:ln w="0">
            <a:noFill/>
          </a:ln>
        </p:spPr>
      </p:sp>
      <p:sp>
        <p:nvSpPr>
          <p:cNvPr id="190"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ork on context for these, give guidance on T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eparate engineering from management problems.</a:t>
            </a:r>
            <a:endParaRPr b="0" lang="en-US" sz="11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22200" y="717480"/>
            <a:ext cx="4703760" cy="3527640"/>
          </a:xfrm>
          <a:prstGeom prst="rect">
            <a:avLst/>
          </a:prstGeom>
          <a:ln w="0">
            <a:noFill/>
          </a:ln>
        </p:spPr>
      </p:sp>
      <p:sp>
        <p:nvSpPr>
          <p:cNvPr id="192"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ow can a TSP project wind up this wa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ysfunctional team leader, not following the proces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ternal chang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really is likely to be the case when a non-TSP project is in trouble, and a TSP trained/experienced TL is asked to take over the projec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22200" y="717480"/>
            <a:ext cx="4703760" cy="3527640"/>
          </a:xfrm>
          <a:prstGeom prst="rect">
            <a:avLst/>
          </a:prstGeom>
          <a:ln w="0">
            <a:noFill/>
          </a:ln>
        </p:spPr>
      </p:sp>
      <p:sp>
        <p:nvSpPr>
          <p:cNvPr id="19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iscuss Steve McConnell’s example of infeasible schedule reg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WinWord example from page 207 of Rapid Develop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surprising fact is that the more important the project and the worse trouble it is in, the more likely it is that the customer and management will agree to a rational pla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22200" y="717480"/>
            <a:ext cx="4703760" cy="3527640"/>
          </a:xfrm>
          <a:prstGeom prst="rect">
            <a:avLst/>
          </a:prstGeom>
          <a:ln w="0">
            <a:noFill/>
          </a:ln>
        </p:spPr>
      </p:sp>
      <p:sp>
        <p:nvSpPr>
          <p:cNvPr id="19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0E4EC50-D8FA-4C9A-AE7D-4E2DEF4839E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22200" y="717480"/>
            <a:ext cx="4703760" cy="3527640"/>
          </a:xfrm>
          <a:prstGeom prst="rect">
            <a:avLst/>
          </a:prstGeom>
          <a:ln w="0">
            <a:noFill/>
          </a:ln>
        </p:spPr>
      </p:sp>
      <p:sp>
        <p:nvSpPr>
          <p:cNvPr id="19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wo problems here. TSP helps with the engineering problem, I.e., the discipline to evaluate every change and make the impact know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n it is up to management to decide how to handle this. Obviously the best situation is for management to stand up to the customer.</a:t>
            </a:r>
            <a:endParaRPr b="0" lang="en-US" sz="11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22200" y="717480"/>
            <a:ext cx="4703760" cy="3527640"/>
          </a:xfrm>
          <a:prstGeom prst="rect">
            <a:avLst/>
          </a:prstGeom>
          <a:ln w="0">
            <a:noFill/>
          </a:ln>
        </p:spPr>
      </p:sp>
      <p:sp>
        <p:nvSpPr>
          <p:cNvPr id="20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8E3C412-CF22-476E-9E6B-C54039C9734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22200" y="717480"/>
            <a:ext cx="4703760" cy="3527640"/>
          </a:xfrm>
          <a:prstGeom prst="rect">
            <a:avLst/>
          </a:prstGeom>
          <a:ln w="0">
            <a:noFill/>
          </a:ln>
        </p:spPr>
      </p:sp>
      <p:sp>
        <p:nvSpPr>
          <p:cNvPr id="20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SP helps the team leader separate the ploys from the unreasonable demands.</a:t>
            </a: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22200" y="717480"/>
            <a:ext cx="4703760" cy="3527640"/>
          </a:xfrm>
          <a:prstGeom prst="rect">
            <a:avLst/>
          </a:prstGeom>
          <a:ln w="0">
            <a:noFill/>
          </a:ln>
        </p:spPr>
      </p:sp>
      <p:sp>
        <p:nvSpPr>
          <p:cNvPr id="16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BE3821A-A2B0-4B70-8E9B-66670D39018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22200" y="717480"/>
            <a:ext cx="4703760" cy="3527640"/>
          </a:xfrm>
          <a:prstGeom prst="rect">
            <a:avLst/>
          </a:prstGeom>
          <a:ln w="0">
            <a:noFill/>
          </a:ln>
        </p:spPr>
      </p:sp>
      <p:sp>
        <p:nvSpPr>
          <p:cNvPr id="20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9493122-2051-469F-89D0-AB0C7F4208A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22200" y="717480"/>
            <a:ext cx="4703760" cy="3527640"/>
          </a:xfrm>
          <a:prstGeom prst="rect">
            <a:avLst/>
          </a:prstGeom>
          <a:ln w="0">
            <a:noFill/>
          </a:ln>
        </p:spPr>
      </p:sp>
      <p:sp>
        <p:nvSpPr>
          <p:cNvPr id="20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0479361-82B9-4D7F-A7B5-78D04D2E39D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22200" y="717480"/>
            <a:ext cx="4703760" cy="3527640"/>
          </a:xfrm>
          <a:prstGeom prst="rect">
            <a:avLst/>
          </a:prstGeom>
          <a:ln w="0">
            <a:noFill/>
          </a:ln>
        </p:spPr>
      </p:sp>
      <p:sp>
        <p:nvSpPr>
          <p:cNvPr id="21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8B9D075-BC8C-432C-90D5-9F59971DDB6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22200" y="717480"/>
            <a:ext cx="4703760" cy="3527640"/>
          </a:xfrm>
          <a:prstGeom prst="rect">
            <a:avLst/>
          </a:prstGeom>
          <a:ln w="0">
            <a:noFill/>
          </a:ln>
        </p:spPr>
      </p:sp>
      <p:sp>
        <p:nvSpPr>
          <p:cNvPr id="21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5A1A62D-3F3F-4E1D-87B9-82EB5B109B2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17480"/>
            <a:ext cx="4703760" cy="3527640"/>
          </a:xfrm>
          <a:prstGeom prst="rect">
            <a:avLst/>
          </a:prstGeom>
          <a:ln w="0">
            <a:noFill/>
          </a:ln>
        </p:spPr>
      </p:sp>
      <p:sp>
        <p:nvSpPr>
          <p:cNvPr id="21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95437A7-7AC5-49BD-861F-AF5C31C7638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22200" y="717480"/>
            <a:ext cx="4703760" cy="3527640"/>
          </a:xfrm>
          <a:prstGeom prst="rect">
            <a:avLst/>
          </a:prstGeom>
          <a:ln w="0">
            <a:noFill/>
          </a:ln>
        </p:spPr>
      </p:sp>
      <p:sp>
        <p:nvSpPr>
          <p:cNvPr id="22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A715780-DF40-4A90-9C89-89413E30FB6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22200" y="717480"/>
            <a:ext cx="4703760" cy="3527640"/>
          </a:xfrm>
          <a:prstGeom prst="rect">
            <a:avLst/>
          </a:prstGeom>
          <a:ln w="0">
            <a:noFill/>
          </a:ln>
        </p:spPr>
      </p:sp>
      <p:sp>
        <p:nvSpPr>
          <p:cNvPr id="22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f the engineers think their evaluations will be based on some numerical measures and that the team leader has some specific targets for those measures, they will do their utmost to meet those targets, regardless of how their actions may impact any other objectives.</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story of trans-Siberian railroad, people measured on the number of cars crossing the continent. So they had many trains of empty cars crossing the continent. They changed the measure to require the cars be loaded and the worker filled the cars with anything available, including water.</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17480"/>
            <a:ext cx="4703760" cy="3527640"/>
          </a:xfrm>
          <a:prstGeom prst="rect">
            <a:avLst/>
          </a:prstGeom>
          <a:ln w="0">
            <a:noFill/>
          </a:ln>
        </p:spPr>
      </p:sp>
      <p:sp>
        <p:nvSpPr>
          <p:cNvPr id="22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t’s important to take care of a difficult person because of the effect they have on the team. The team leader either needs to change their attitude so that they become productive team members or have them removed from the team so they don’t disrupt the team.</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22200" y="717480"/>
            <a:ext cx="4703760" cy="3527640"/>
          </a:xfrm>
          <a:prstGeom prst="rect">
            <a:avLst/>
          </a:prstGeom>
          <a:ln w="0">
            <a:noFill/>
          </a:ln>
        </p:spPr>
      </p:sp>
      <p:sp>
        <p:nvSpPr>
          <p:cNvPr id="22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438CCCA-9F17-4D10-A05D-B155D5782E4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22200" y="717480"/>
            <a:ext cx="4703760" cy="3527640"/>
          </a:xfrm>
          <a:prstGeom prst="rect">
            <a:avLst/>
          </a:prstGeom>
          <a:ln w="0">
            <a:noFill/>
          </a:ln>
        </p:spPr>
      </p:sp>
      <p:sp>
        <p:nvSpPr>
          <p:cNvPr id="23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0FC38D6-43F1-4255-B335-D9BCDCBFD0B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22200" y="717480"/>
            <a:ext cx="4703760" cy="3527640"/>
          </a:xfrm>
          <a:prstGeom prst="rect">
            <a:avLst/>
          </a:prstGeom>
          <a:ln w="0">
            <a:noFill/>
          </a:ln>
        </p:spPr>
      </p:sp>
      <p:sp>
        <p:nvSpPr>
          <p:cNvPr id="16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10515AB-B714-4052-BD87-55E824B1719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17480"/>
            <a:ext cx="4703760" cy="3527640"/>
          </a:xfrm>
          <a:prstGeom prst="rect">
            <a:avLst/>
          </a:prstGeom>
          <a:ln w="0">
            <a:noFill/>
          </a:ln>
        </p:spPr>
      </p:sp>
      <p:sp>
        <p:nvSpPr>
          <p:cNvPr id="23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23C08B6-AB15-47F2-B049-A09AFC0A3C1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22200" y="717480"/>
            <a:ext cx="4703760" cy="3527640"/>
          </a:xfrm>
          <a:prstGeom prst="rect">
            <a:avLst/>
          </a:prstGeom>
          <a:ln w="0">
            <a:noFill/>
          </a:ln>
        </p:spPr>
      </p:sp>
      <p:sp>
        <p:nvSpPr>
          <p:cNvPr id="16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66AAA22-F7AA-43AE-808E-65674965FCB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22200" y="717480"/>
            <a:ext cx="4703760" cy="3527640"/>
          </a:xfrm>
          <a:prstGeom prst="rect">
            <a:avLst/>
          </a:prstGeom>
          <a:ln w="0">
            <a:noFill/>
          </a:ln>
        </p:spPr>
      </p:sp>
      <p:sp>
        <p:nvSpPr>
          <p:cNvPr id="17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83BFD61-0EFC-4931-8782-2A5B47D722E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22200" y="717480"/>
            <a:ext cx="4703760" cy="3527640"/>
          </a:xfrm>
          <a:prstGeom prst="rect">
            <a:avLst/>
          </a:prstGeom>
          <a:ln w="0">
            <a:noFill/>
          </a:ln>
        </p:spPr>
      </p:sp>
      <p:sp>
        <p:nvSpPr>
          <p:cNvPr id="17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01D3FAC-364F-437C-856C-DE3C2F7855A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2023920" y="619200"/>
            <a:ext cx="2876760" cy="2157480"/>
          </a:xfrm>
          <a:prstGeom prst="rect">
            <a:avLst/>
          </a:prstGeom>
          <a:ln w="0">
            <a:noFill/>
          </a:ln>
        </p:spPr>
      </p:sp>
      <p:sp>
        <p:nvSpPr>
          <p:cNvPr id="176" name="PlaceHolder 2"/>
          <p:cNvSpPr>
            <a:spLocks noGrp="1"/>
          </p:cNvSpPr>
          <p:nvPr>
            <p:ph type="body"/>
          </p:nvPr>
        </p:nvSpPr>
        <p:spPr>
          <a:xfrm>
            <a:off x="612720" y="2904840"/>
            <a:ext cx="5935680" cy="5949720"/>
          </a:xfrm>
          <a:prstGeom prst="rect">
            <a:avLst/>
          </a:prstGeom>
          <a:noFill/>
          <a:ln w="57240">
            <a:solidFill>
              <a:srgbClr val="000000"/>
            </a:solidFill>
            <a:prstDash val="dash"/>
            <a:miter/>
          </a:ln>
        </p:spPr>
        <p:txBody>
          <a:bodyPr lIns="95040" rIns="95040" tIns="46440" bIns="46440" anchor="t">
            <a:noAutofit/>
          </a:bodyPr>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lang="en-US" sz="1100" spc="-1" strike="noStrike">
                <a:solidFill>
                  <a:srgbClr val="000000"/>
                </a:solidFill>
                <a:latin typeface="Arial"/>
              </a:rPr>
              <a:t>These are the traditional roles for a first line manager.</a:t>
            </a: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lang="en-US" sz="1100" spc="-1" strike="noStrike">
                <a:solidFill>
                  <a:srgbClr val="000000"/>
                </a:solidFill>
                <a:latin typeface="Arial"/>
              </a:rPr>
              <a:t>The first group is the team leader support to the team.</a:t>
            </a: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lang="en-US" sz="1100" spc="-1" strike="noStrike">
                <a:solidFill>
                  <a:srgbClr val="000000"/>
                </a:solidFill>
                <a:latin typeface="Arial"/>
              </a:rPr>
              <a:t>The second group is the “management “ responsibilities.</a:t>
            </a: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endParaRPr b="0" lang="en-US" sz="1100" spc="-1" strike="noStrike">
              <a:solidFill>
                <a:srgbClr val="000000"/>
              </a:solidFill>
              <a:latin typeface="Arial"/>
            </a:endParaRPr>
          </a:p>
          <a:p>
            <a:pPr indent="0">
              <a:lnSpc>
                <a:spcPct val="89000"/>
              </a:lnSpc>
              <a:spcBef>
                <a:spcPts val="550"/>
              </a:spcBef>
              <a:buNone/>
              <a:tabLst>
                <a:tab algn="l" pos="0"/>
                <a:tab algn="l" pos="985680"/>
                <a:tab algn="l" pos="1971720"/>
                <a:tab algn="l" pos="2957400"/>
                <a:tab algn="l" pos="3943440"/>
                <a:tab algn="l" pos="4929120"/>
                <a:tab algn="l" pos="5915160"/>
                <a:tab algn="l" pos="6900840"/>
                <a:tab algn="l" pos="7886880"/>
                <a:tab algn="l" pos="8872560"/>
                <a:tab algn="l" pos="9858240"/>
                <a:tab algn="l" pos="10844280"/>
              </a:tabLst>
            </a:pPr>
            <a:r>
              <a:rPr b="0" lang="en-US" sz="1100" spc="-1" strike="noStrike">
                <a:solidFill>
                  <a:srgbClr val="000000"/>
                </a:solidFill>
                <a:latin typeface="Arial"/>
              </a:rPr>
              <a:t>Between this and the previous slide, the point to make is that the team leader’s role has changed, there is a culture shift necessary. Before the team leader took the responsibility for the project, planning, tracking, managing all aspects. Now the team leader has relinquished much of the project responsibility to the team, and the team leader now handles the previous responsibilities, plus retains thes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22200" y="717480"/>
            <a:ext cx="4703760" cy="3527640"/>
          </a:xfrm>
          <a:prstGeom prst="rect">
            <a:avLst/>
          </a:prstGeom>
          <a:ln w="0">
            <a:noFill/>
          </a:ln>
        </p:spPr>
      </p:sp>
      <p:sp>
        <p:nvSpPr>
          <p:cNvPr id="17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leader</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n’t attend training, doesn’t have time for it</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n’t make engineers attend the training</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n’t hold weekly meeting</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kes commitments for the team</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hanges the team plan</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es nothing about a team member that isn’t following the process</a:t>
            </a:r>
            <a:endParaRPr b="0" lang="en-US" sz="1100" spc="-1" strike="noStrike">
              <a:solidFill>
                <a:srgbClr val="000000"/>
              </a:solidFill>
              <a:latin typeface="Arial"/>
            </a:endParaRPr>
          </a:p>
          <a:p>
            <a:pPr lvl="1" marL="466560" indent="0">
              <a:lnSpc>
                <a:spcPct val="89000"/>
              </a:lnSpc>
              <a:spcBef>
                <a:spcPts val="5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22200" y="717480"/>
            <a:ext cx="4703760" cy="3527640"/>
          </a:xfrm>
          <a:prstGeom prst="rect">
            <a:avLst/>
          </a:prstGeom>
          <a:ln w="0">
            <a:noFill/>
          </a:ln>
        </p:spPr>
      </p:sp>
      <p:sp>
        <p:nvSpPr>
          <p:cNvPr id="18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BE01371-716C-449D-B6B7-631ACDBD174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4"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6"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8"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9"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3"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5"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9"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1"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3"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5"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6"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8"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1"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3"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8"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DCDFFE48-CEBD-48A2-AACA-0404B9EAE273}"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E356C71C-C873-40CE-9310-2373862F0C83}"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51"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2"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8"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Coaching the Team Leader</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blems with the Team Leader -3</a:t>
            </a:r>
            <a:endParaRPr b="1" lang="en-US" sz="3600" spc="-1" strike="noStrike">
              <a:solidFill>
                <a:srgbClr val="9c2108"/>
              </a:solidFill>
              <a:latin typeface="Arial"/>
            </a:endParaRPr>
          </a:p>
        </p:txBody>
      </p:sp>
      <p:sp>
        <p:nvSpPr>
          <p:cNvPr id="117" name=""/>
          <p:cNvSpPr txBox="1"/>
          <p:nvPr/>
        </p:nvSpPr>
        <p:spPr>
          <a:xfrm>
            <a:off x="1017720" y="1587600"/>
            <a:ext cx="7991280" cy="4883040"/>
          </a:xfrm>
          <a:prstGeom prst="rect">
            <a:avLst/>
          </a:prstGeom>
          <a:noFill/>
          <a:ln w="0">
            <a:noFill/>
          </a:ln>
        </p:spPr>
        <p:txBody>
          <a:bodyPr lIns="0" rIns="0" tIns="0" bIns="0" anchor="t">
            <a:normAutofit fontScale="99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is is the general procedure for handling a problem with the team leader.</a:t>
            </a: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ind out why the team leader is not following the process or requiring the team to follow the proces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ume that the team leader wants to do the job properly and is confused or needs guidance.  Provide whatever help you can.</a:t>
            </a: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 team leader does not respond to guidance or refuses it, discuss the situation with senior management.  The objective is to enlist their help in changing the team leader’s attitude, not to get the team leader reassigned, disciplined, or dismiss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it becomes clear the team leader can’t be turned around, urge management to promptly appoint a new team leader.</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The Hard-Head</a:t>
            </a:r>
            <a:endParaRPr b="1" lang="en-US" sz="3600" spc="-1" strike="noStrike">
              <a:solidFill>
                <a:srgbClr val="9c2108"/>
              </a:solidFill>
              <a:latin typeface="Arial"/>
            </a:endParaRPr>
          </a:p>
        </p:txBody>
      </p:sp>
      <p:sp>
        <p:nvSpPr>
          <p:cNvPr id="11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rsha is the team leader for a new TSP project.  Sh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managed a number of projec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d PSP/TSP manager’s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not believe that the emphasis on process discipline is necessa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els that she can continue with her traditional management style on this project, even though management has told her to use TS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ion:  What should the TSP coach d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Hard-Head: What Happened</a:t>
            </a:r>
            <a:endParaRPr b="1" lang="en-US" sz="3600" spc="-1" strike="noStrike">
              <a:solidFill>
                <a:srgbClr val="9c2108"/>
              </a:solidFill>
              <a:latin typeface="Arial"/>
            </a:endParaRPr>
          </a:p>
        </p:txBody>
      </p:sp>
      <p:sp>
        <p:nvSpPr>
          <p:cNvPr id="121" name=""/>
          <p:cNvSpPr txBox="1"/>
          <p:nvPr/>
        </p:nvSpPr>
        <p:spPr>
          <a:xfrm>
            <a:off x="1017360" y="1566360"/>
            <a:ext cx="7413480" cy="473580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coach </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knew that Marsha’s team was not gathering their data or following the process</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alked to Marsha, but could not convince her to do anything about it</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alked to senior management, but they would not tell Marsha to motivate her team to use the process, nor would they replace her</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en Marsha’s team finished the project, the coach looked at the results.  She </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found that Marsha’s team had taken almost four months longer to complete testing than any other TSP project</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showed senior management the public data and explained how much Marsha’s failure to demand process discipline had cost the company</a:t>
            </a:r>
            <a:endParaRPr b="0" lang="en-US" sz="1900" spc="-1" strike="noStrike">
              <a:solidFill>
                <a:srgbClr val="39536b"/>
              </a:solidFill>
              <a:latin typeface="Arial"/>
            </a:endParaRPr>
          </a:p>
          <a:p>
            <a:pPr marL="343080" indent="-343080">
              <a:spcBef>
                <a:spcPts val="601"/>
              </a:spcBef>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Management removed Marsha from her job.</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the Team Leader</a:t>
            </a:r>
            <a:endParaRPr b="1" lang="en-US" sz="3600" spc="-1" strike="noStrike">
              <a:solidFill>
                <a:srgbClr val="9c2108"/>
              </a:solidFill>
              <a:latin typeface="Arial"/>
            </a:endParaRPr>
          </a:p>
        </p:txBody>
      </p:sp>
      <p:sp>
        <p:nvSpPr>
          <p:cNvPr id="12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st of this presentation covers some of the situations that the team leader may face and suggests how the team leader can deal with th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a:r>
            <a:r>
              <a:rPr b="0" lang="en-US" sz="2200" spc="-1" strike="noStrike">
                <a:solidFill>
                  <a:srgbClr val="39536b"/>
                </a:solidFill>
                <a:latin typeface="Arial"/>
              </a:rPr>
              <a:t>impossible” project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dividual issu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 cover these here to help you in guiding and coaching the team lead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t>
            </a:r>
            <a:r>
              <a:rPr b="1" lang="en-US" sz="3600" spc="-1" strike="noStrike">
                <a:solidFill>
                  <a:srgbClr val="9c2108"/>
                </a:solidFill>
                <a:latin typeface="Arial"/>
              </a:rPr>
              <a:t>Impossible” Projects</a:t>
            </a:r>
            <a:endParaRPr b="1" lang="en-US" sz="3600" spc="-1" strike="noStrike">
              <a:solidFill>
                <a:srgbClr val="9c2108"/>
              </a:solidFill>
              <a:latin typeface="Arial"/>
            </a:endParaRPr>
          </a:p>
        </p:txBody>
      </p:sp>
      <p:sp>
        <p:nvSpPr>
          <p:cNvPr id="125"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projects seem to be cursed; nothing seems to work, and there is a disproportionate amount of “bad luck.”</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evious manager was fired.</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est employees are quitting.</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riginal designers have left.</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e thing these “impossible” projects have in common is that no one on the team believes that the job can be done on the required schedu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ree categories of “impossible” projects ar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impossibly short schedul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unreasonable customer</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demanding executiv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n Impossibly Short Schedule</a:t>
            </a:r>
            <a:endParaRPr b="1" lang="en-US" sz="3600" spc="-1" strike="noStrike">
              <a:solidFill>
                <a:srgbClr val="9c2108"/>
              </a:solidFill>
              <a:latin typeface="Arial"/>
            </a:endParaRPr>
          </a:p>
        </p:txBody>
      </p:sp>
      <p:sp>
        <p:nvSpPr>
          <p:cNvPr id="12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project has an impossibly short schedule when no realistic plan can be built.  Since teams can’t make a realistic plan, they often do illogical things and end up taking longer than they would have done with a rational plan and schedul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way to handle such projects is to</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oroughly assess where the project i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a comprehensive team plan</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view the plan with management and the customer</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gree on how to proce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oject has a sound basis for proceeding once it has a comprehensive plan that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leader and the team agree is feasibl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ement and the customer have reviewed and accepted</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n Unreasonable Customer</a:t>
            </a:r>
            <a:endParaRPr b="1" lang="en-US" sz="3600" spc="-1" strike="noStrike">
              <a:solidFill>
                <a:srgbClr val="9c2108"/>
              </a:solidFill>
              <a:latin typeface="Arial"/>
            </a:endParaRPr>
          </a:p>
        </p:txBody>
      </p:sp>
      <p:sp>
        <p:nvSpPr>
          <p:cNvPr id="12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ustomer is likely to be unhappy when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project is in trouble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duct can’t be delivered on the original schedule and for the agreed-upon cost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st customers are surprisingly reasonable, even under the most adverse conditions, if the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problems that the project face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the flexibility to change requirement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y don’t have this flexibility, expect them to be very difficult to negotiate with.</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006200" y="890280"/>
            <a:ext cx="8002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Handling the Unreasonable Customer</a:t>
            </a:r>
            <a:endParaRPr b="1" lang="en-US" sz="3200" spc="-1" strike="noStrike">
              <a:solidFill>
                <a:srgbClr val="9c2108"/>
              </a:solidFill>
              <a:latin typeface="Arial"/>
            </a:endParaRPr>
          </a:p>
        </p:txBody>
      </p:sp>
      <p:sp>
        <p:nvSpPr>
          <p:cNvPr id="131" name=""/>
          <p:cNvSpPr txBox="1"/>
          <p:nvPr/>
        </p:nvSpPr>
        <p:spPr>
          <a:xfrm>
            <a:off x="1017360" y="1547640"/>
            <a:ext cx="7413480" cy="4754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re are no simple rules for handling unreasonable customers. The best guideline is for the team leader and team to act responsibl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the customer requests any change that impacts the project’s cost or schedule, the team leader should get the issue on the table immediatel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the customer insists that the change is within the original contract, the team leader should make sure that</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nagement agrees and is willing to cover the added costs</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ustomer will accept the schedule dela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either party does not agree, the team leader must get the issue settled before accepting the chang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the team leader doesn’t do this, the</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ituation will only get worse </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roject is likely to end up being canceled</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 Demanding Executive</a:t>
            </a:r>
            <a:endParaRPr b="1" lang="en-US" sz="3600" spc="-1" strike="noStrike">
              <a:solidFill>
                <a:srgbClr val="9c2108"/>
              </a:solidFill>
              <a:latin typeface="Arial"/>
            </a:endParaRPr>
          </a:p>
        </p:txBody>
      </p:sp>
      <p:sp>
        <p:nvSpPr>
          <p:cNvPr id="13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ecutives are often demanding and impose seemingly impossible challeng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demands are often ploys to get their people to try harder.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ew people are truly unreasonable, particularly executive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blem for the team leader is to separate the bluffs and ploys from the truly unreasonable demands.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560" y="890280"/>
            <a:ext cx="79819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Handling the Demanding Executive</a:t>
            </a:r>
            <a:endParaRPr b="1" lang="en-US" sz="3600" spc="-1" strike="noStrike">
              <a:solidFill>
                <a:srgbClr val="9c2108"/>
              </a:solidFill>
              <a:latin typeface="Arial"/>
            </a:endParaRPr>
          </a:p>
        </p:txBody>
      </p:sp>
      <p:sp>
        <p:nvSpPr>
          <p:cNvPr id="135" name=""/>
          <p:cNvSpPr txBox="1"/>
          <p:nvPr/>
        </p:nvSpPr>
        <p:spPr>
          <a:xfrm>
            <a:off x="1017360" y="1579320"/>
            <a:ext cx="7413480" cy="4722840"/>
          </a:xfrm>
          <a:prstGeom prst="rect">
            <a:avLst/>
          </a:prstGeom>
          <a:noFill/>
          <a:ln w="0">
            <a:noFill/>
          </a:ln>
        </p:spPr>
        <p:txBody>
          <a:bodyPr lIns="0" rIns="0" tIns="0" bIns="0" anchor="t">
            <a:normAutofit fontScale="94000"/>
          </a:bodyPr>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approach that usually works is for the team to</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sume that the executive is truly interested in the best results that the team can produce</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a plan that does the best job that the team is capable of doing </a:t>
            </a: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protect the team in case the executive is truly impossible, the team should construct another plan that meets the executive’s schedule, even if this plan </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kes another 25 employee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iples the team budget</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ers all non-essential functions</a:t>
            </a: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ile this is likely to protect the team leader from being fired, there are no guarante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 </a:t>
            </a:r>
            <a:r>
              <a:rPr b="1" lang="en-US" sz="3600" spc="-1" strike="noStrike">
                <a:solidFill>
                  <a:srgbClr val="9c2108"/>
                </a:solidFill>
                <a:latin typeface="Arial"/>
              </a:rPr>
              <a:t>Outline: Running the Project</a:t>
            </a:r>
            <a:endParaRPr b="1" lang="en-US" sz="3600" spc="-1" strike="noStrike">
              <a:solidFill>
                <a:srgbClr val="9c2108"/>
              </a:solidFill>
              <a:latin typeface="Arial"/>
            </a:endParaRPr>
          </a:p>
        </p:txBody>
      </p:sp>
      <p:sp>
        <p:nvSpPr>
          <p:cNvPr id="100" name=""/>
          <p:cNvSpPr txBox="1"/>
          <p:nvPr/>
        </p:nvSpPr>
        <p:spPr>
          <a:xfrm>
            <a:off x="1017360" y="1496520"/>
            <a:ext cx="8126280" cy="480564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SP roles:  getting roles to be successful on a team</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racking and reporting:  collecting data, the weekly team meeting, reporting to management</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intaining the baseline plan:  keeping the team commitment, evaluating status, adjusting plans when necessary</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intaining a quality focus:  responsibilities for quality, TSP quality methods</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aching the team:  areas where the coach helps TSP discipline</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aching the team leader:  handling problems with a TSP team leader</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ost-launch Coaching:  post-launch coaching strategy and plan</a:t>
            </a:r>
            <a:endParaRPr b="0" lang="en-US" sz="1800" spc="-1" strike="noStrike">
              <a:solidFill>
                <a:srgbClr val="39536b"/>
              </a:solidFill>
              <a:latin typeface="Arial"/>
            </a:endParaRPr>
          </a:p>
        </p:txBody>
      </p:sp>
      <p:sp>
        <p:nvSpPr>
          <p:cNvPr id="101" name="AutoShape 2052"/>
          <p:cNvSpPr/>
          <p:nvPr/>
        </p:nvSpPr>
        <p:spPr>
          <a:xfrm>
            <a:off x="331920" y="4781520"/>
            <a:ext cx="326880" cy="287280"/>
          </a:xfrm>
          <a:prstGeom prst="rightArrow">
            <a:avLst>
              <a:gd name="adj1" fmla="val 50000"/>
              <a:gd name="adj2" fmla="val 28446"/>
            </a:avLst>
          </a:prstGeom>
          <a:solidFill>
            <a:srgbClr val="39536b"/>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ummary on “Impossible” Projects</a:t>
            </a:r>
            <a:endParaRPr b="1" lang="en-US" sz="3600" spc="-1" strike="noStrike">
              <a:solidFill>
                <a:srgbClr val="9c2108"/>
              </a:solidFill>
              <a:latin typeface="Arial"/>
            </a:endParaRPr>
          </a:p>
        </p:txBody>
      </p:sp>
      <p:sp>
        <p:nvSpPr>
          <p:cNvPr id="137" name=""/>
          <p:cNvSpPr txBox="1"/>
          <p:nvPr/>
        </p:nvSpPr>
        <p:spPr>
          <a:xfrm>
            <a:off x="1017360" y="1709640"/>
            <a:ext cx="7413480" cy="4592880"/>
          </a:xfrm>
          <a:prstGeom prst="rect">
            <a:avLst/>
          </a:prstGeom>
          <a:noFill/>
          <a:ln w="0">
            <a:noFill/>
          </a:ln>
        </p:spPr>
        <p:txBody>
          <a:bodyPr lIns="0" rIns="0" tIns="0" bIns="0" anchor="t">
            <a:normAutofit fontScale="99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safest strategy for handling what seems like an “impossible” project is for the team leader to have the team concentrate on doing the best job that they know how.</a:t>
            </a:r>
            <a:endParaRPr b="0" lang="en-US" sz="19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Have the team follow the TSP launch process.</a:t>
            </a:r>
            <a:endParaRPr b="0" lang="en-US" sz="19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Have the team define how to do the work in a technically sound way.</a:t>
            </a:r>
            <a:endParaRPr b="0" lang="en-US" sz="19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Make sure that the entire team has been involved in producing the plan.</a:t>
            </a:r>
            <a:endParaRPr b="0" lang="en-US" sz="19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Make sure that the entire team is convinced that this is the best plan that it can make.</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team should meet with management and the customer to present the plan.</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en management and the customer realize that the team has done its homework, they usually end up accepting the team’s plan.</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Issues</a:t>
            </a:r>
            <a:endParaRPr b="1" lang="en-US" sz="3600" spc="-1" strike="noStrike">
              <a:solidFill>
                <a:srgbClr val="9c2108"/>
              </a:solidFill>
              <a:latin typeface="Arial"/>
            </a:endParaRPr>
          </a:p>
        </p:txBody>
      </p:sp>
      <p:sp>
        <p:nvSpPr>
          <p:cNvPr id="13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has these responsibilities to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the pace for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trust with the team</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2200"/>
            </a:b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et the Pace</a:t>
            </a:r>
            <a:endParaRPr b="1" lang="en-US" sz="3600" spc="-1" strike="noStrike">
              <a:solidFill>
                <a:srgbClr val="9c2108"/>
              </a:solidFill>
              <a:latin typeface="Arial"/>
            </a:endParaRPr>
          </a:p>
        </p:txBody>
      </p:sp>
      <p:sp>
        <p:nvSpPr>
          <p:cNvPr id="141"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e Iacocca said, “The speed of the boss is the speed of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leader is not in much of a hurry, the team will relax and coa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ritical issue here is the team leader’s behavior.</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team leader really believe the team’s goal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team leader working aggressively to meet them?</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the team leader challenging the team member to do their bes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s job is to motivate the team members to do the best work that they are capable of do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aintain the Team</a:t>
            </a:r>
            <a:endParaRPr b="1" lang="en-US" sz="3600" spc="-1" strike="noStrike">
              <a:solidFill>
                <a:srgbClr val="9c2108"/>
              </a:solidFill>
              <a:latin typeface="Arial"/>
            </a:endParaRPr>
          </a:p>
        </p:txBody>
      </p:sp>
      <p:sp>
        <p:nvSpPr>
          <p:cNvPr id="14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aunch should have resulted in a cohesive team that is ready to jel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e of the key responsibilities of the team leader after the launch is to maintain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key considerations for maintaining the team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lding frequent team meeting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eating the team as a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aring a common workspa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uild Trust with the Team</a:t>
            </a:r>
            <a:endParaRPr b="1" lang="en-US" sz="3600" spc="-1" strike="noStrike">
              <a:solidFill>
                <a:srgbClr val="9c2108"/>
              </a:solidFill>
              <a:latin typeface="Arial"/>
            </a:endParaRPr>
          </a:p>
        </p:txBody>
      </p:sp>
      <p:sp>
        <p:nvSpPr>
          <p:cNvPr id="14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e way for the team leader to build trust with the team is to show that he/she trusts the team by asking for their hel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s can ask the team for help in maintaining their own process discipline.  They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the team to remind them when they do not follow the defined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the quality and process managers to monitor the quality of their personal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2200"/>
            </a:br>
            <a:r>
              <a:rPr b="0" lang="en-US" sz="2200" spc="-1" strike="noStrike">
                <a:solidFill>
                  <a:srgbClr val="39536b"/>
                </a:solidFill>
                <a:latin typeface="Arial"/>
              </a:rPr>
              <a:t>When team leaders share their data with the team, the team members are more likely to share their data with the team lead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dividual Issues</a:t>
            </a:r>
            <a:endParaRPr b="1" lang="en-US" sz="3600" spc="-1" strike="noStrike">
              <a:solidFill>
                <a:srgbClr val="9c2108"/>
              </a:solidFill>
              <a:latin typeface="Arial"/>
            </a:endParaRPr>
          </a:p>
        </p:txBody>
      </p:sp>
      <p:sp>
        <p:nvSpPr>
          <p:cNvPr id="14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individual issues that the team leader should deal with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aluating team memb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ndling difficult team member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asuring and Evaluating People</a:t>
            </a:r>
            <a:endParaRPr b="1" lang="en-US" sz="3600" spc="-1" strike="noStrike">
              <a:solidFill>
                <a:srgbClr val="9c2108"/>
              </a:solidFill>
              <a:latin typeface="Arial"/>
            </a:endParaRPr>
          </a:p>
        </p:txBody>
      </p:sp>
      <p:sp>
        <p:nvSpPr>
          <p:cNvPr id="149" name=""/>
          <p:cNvSpPr txBox="1"/>
          <p:nvPr/>
        </p:nvSpPr>
        <p:spPr>
          <a:xfrm>
            <a:off x="1017360" y="1709640"/>
            <a:ext cx="7413480" cy="459288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principal objective in evaluating people is to help them improve.</a:t>
            </a: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valuating people is not difficult, particularly when team leaders know as much about a team member’s performance as they will with the TSP.</a:t>
            </a: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But, team leaders must think carefully about how they will use what they know.</a:t>
            </a: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eam leader should</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not use measurement values to evaluate people</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nsider process and process discipline.  Ask if the team member is</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using sound methods</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gathering and reporting his or her data</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ell the team members how they will be evaluated</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what is being looked for</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where they could show improvement</a:t>
            </a:r>
            <a:endParaRPr b="0" lang="en-US" sz="18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not mention any measurement values</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Handling Difficult Team Members</a:t>
            </a:r>
            <a:endParaRPr b="1" lang="en-US" sz="3600" spc="-1" strike="noStrike">
              <a:solidFill>
                <a:srgbClr val="9c2108"/>
              </a:solidFill>
              <a:latin typeface="Arial"/>
            </a:endParaRPr>
          </a:p>
        </p:txBody>
      </p:sp>
      <p:sp>
        <p:nvSpPr>
          <p:cNvPr id="151"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s a manager, the team leader’s job is to get the best possible work from all of his or her peopl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ome people are easy to manage and some are difficult.  One of the most challenging tasks for a manager is to handle the difficult peopl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eam leader should do these things.</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ake the time to listen to and understand these people and try to establish personal rapport.  Many times, this solves the problem.</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f problems continue, discuss the situation with his or her manager and agree in advance on precisely how to handle it.</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ry to motivate the employee to do good work, even if it takes time.</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When nothing else works, take a hard line; it frequently works.     (Be prepared to follow through.)</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1800"/>
            </a:br>
            <a:r>
              <a:rPr b="0" lang="en-US" sz="1800" spc="-1" strike="noStrike">
                <a:solidFill>
                  <a:srgbClr val="39536b"/>
                </a:solidFill>
                <a:latin typeface="Arial"/>
              </a:rPr>
              <a:t>Whatever team leaders decide to do, they should first make sure that their manager agrees with what they plan to do.</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Example: Would Not Join the Team -1</a:t>
            </a:r>
            <a:endParaRPr b="1" lang="en-US" sz="3200" spc="-1" strike="noStrike">
              <a:solidFill>
                <a:srgbClr val="9c2108"/>
              </a:solidFill>
              <a:latin typeface="Arial"/>
            </a:endParaRPr>
          </a:p>
        </p:txBody>
      </p:sp>
      <p:sp>
        <p:nvSpPr>
          <p:cNvPr id="153" name=""/>
          <p:cNvSpPr txBox="1"/>
          <p:nvPr/>
        </p:nvSpPr>
        <p:spPr>
          <a:xfrm>
            <a:off x="1017360" y="1709640"/>
            <a:ext cx="7413480" cy="459288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Janet’s team was having their first TSP launch.  Janet</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was a long-time employee</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sented having a manager young enough to be her daughter</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for years had worked a late schedule</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fused to come to work in time for the first launch meeting</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fused to take a team role</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laimed she knew how to develop software and didn’t need the TSP process</a:t>
            </a: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Linda, the team leader, felt that this behavior would</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estroy the team as a cohesive unit</a:t>
            </a:r>
            <a:endParaRPr b="0" lang="en-US" sz="18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undermine her authority as team leader</a:t>
            </a: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When discussing this issue, Linda’s manager suggested that she tell Janet that if she didn’t participate as a full member of this team, she would have to get another job.  They would give her 30 day’s severance pay, plus any accrued vacation. </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Example: Would Not Join the Team -2</a:t>
            </a:r>
            <a:endParaRPr b="1" lang="en-US" sz="3200" spc="-1" strike="noStrike">
              <a:solidFill>
                <a:srgbClr val="9c2108"/>
              </a:solidFill>
              <a:latin typeface="Arial"/>
            </a:endParaRPr>
          </a:p>
        </p:txBody>
      </p:sp>
      <p:sp>
        <p:nvSpPr>
          <p:cNvPr id="15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Linda explained management’s position to Janet, she was shocked.  Janet had worked for the company for many years, was nearing retirement, and had never had a manager talk to her like thi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ext day, she was at the team meeting on time, and she agreed to take the test manager ro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103"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the key responsibilities of the team lea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how to handle common problems with the team lea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how team leaders should deal with common management, team, and individual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5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is key to the team’s performance.  The team leader mu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lieve that the TSP is the right way to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o lead and coa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blems with the team leader can be serious; if they are not addressed, the team is unlikely to really follow the TSP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must be prepared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al with problems with the team lea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uide and coach the team leader with project, team, and individual issu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5"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responsibiliti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blems with the team leade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the team leade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text</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of the areas that we discuss in this module will be covered in depth in a separate course for team leader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y are included here because you are likely to need to coach new team leaders in these area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9405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The Team Leader’s Responsibilities -1</a:t>
            </a:r>
            <a:endParaRPr b="1" lang="en-US" sz="32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team leader role differs from the traditional project leader ro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responsibilities are handled by the team role manag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focuses on leading and coaching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ensures that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ggressive goals and is working hard to meet the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 defined process and is following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gathering and using TSP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es and maintains high standar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intains its focus on product quality</a:t>
            </a:r>
            <a:endParaRPr b="0" lang="en-US" sz="22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The Team Leader’s Responsibilities -2</a:t>
            </a:r>
            <a:endParaRPr b="1" lang="en-US" sz="3200" spc="-1" strike="noStrike">
              <a:solidFill>
                <a:srgbClr val="9c2108"/>
              </a:solidFill>
              <a:latin typeface="Arial"/>
            </a:endParaRPr>
          </a:p>
        </p:txBody>
      </p:sp>
      <p:sp>
        <p:nvSpPr>
          <p:cNvPr id="11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supports the team b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btaining 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gotiating for needed suppor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solving customer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pporting and representing the team with higher management</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als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presents management to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ndles personnel issues</a:t>
            </a: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blems with the Team Leader -1</a:t>
            </a:r>
            <a:endParaRPr b="1" lang="en-US" sz="3600" spc="-1" strike="noStrike">
              <a:solidFill>
                <a:srgbClr val="9c2108"/>
              </a:solidFill>
              <a:latin typeface="Arial"/>
            </a:endParaRPr>
          </a:p>
        </p:txBody>
      </p:sp>
      <p:sp>
        <p:nvSpPr>
          <p:cNvPr id="1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are many possible problems that you could encounter with the team leader; we can’t cover them al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Two general situa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doesn’t follow the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doesn’t require the team to follow the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re some examples of thes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blems with the Team Leader -2</a:t>
            </a:r>
            <a:endParaRPr b="1" lang="en-US" sz="3600" spc="-1" strike="noStrike">
              <a:solidFill>
                <a:srgbClr val="9c2108"/>
              </a:solidFill>
              <a:latin typeface="Arial"/>
            </a:endParaRPr>
          </a:p>
        </p:txBody>
      </p:sp>
      <p:sp>
        <p:nvSpPr>
          <p:cNvPr id="115"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oot causes of team leader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doesn’t understand what to do, but believes in using the TSP.</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der needs guidance and suppor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tuation can be handled with coaching or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doesn’t believe in using the TSP, or believes that he/she knows better.</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tuation is usually seriou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nerally disables a team if the problem is not fix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likely to require support from management</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41Z</dcterms:modified>
  <cp:revision>212</cp:revision>
  <dc:subject/>
  <dc:title>No Slide Title</dc:title>
</cp:coreProperties>
</file>